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56B3-01B3-48A8-9501-3CE4ED6FA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2E66-3F00-41C8-AD1F-5E419BF9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D972-693C-412B-B5D2-0F9B2C31E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6E0F-B716-4792-B4E3-5E76A3D97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09F1-005B-435A-9954-383F0D81C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6E7E-18ED-400F-B4FC-79747B0E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CD88-47DD-4326-B5FB-6773E3C8D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CBCC-32F5-4A76-93F6-F914696A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38E6-4367-453F-BDF1-033542A4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70BB-5AFF-4DDE-940F-D5E8D6AD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CB1D-D4C6-4ACB-AED3-F5BD6389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5B35-D25D-4CAA-A5F8-4A0EC8FD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5C81-C42B-4DE0-AB16-CC014B113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Las salinas del mar men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332000" y="981000"/>
            <a:ext cx="63500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¡Los flamenquillo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360" y="2286000"/>
            <a:ext cx="820728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¡¡Se aburriam y se estaban bañando y hacia frio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00000" y="2538360"/>
            <a:ext cx="7201080" cy="35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¡Esto si que mol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7080" y="1268280"/>
            <a:ext cx="8889840" cy="54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o es un cam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33720" y="1795320"/>
            <a:ext cx="487656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o no se lo que es pero que chulo no¿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2000160"/>
            <a:ext cx="734544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o es todo amig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Arial"/>
              </a:rPr>
              <a:t>Director: Pab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Arial"/>
              </a:rPr>
              <a:t>Cámara: Pab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Arial"/>
              </a:rPr>
              <a:t>Realizador: Pab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Arial"/>
              </a:rPr>
              <a:t>Fin: ya está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8T21:58:25Z</dcterms:created>
  <dc:creator>Pablo</dc:creator>
  <dc:description/>
  <dc:language>en-US</dc:language>
  <cp:lastModifiedBy>Pablo</cp:lastModifiedBy>
  <dcterms:modified xsi:type="dcterms:W3CDTF">2006-04-08T21:58:25Z</dcterms:modified>
  <cp:revision>1</cp:revision>
  <dc:subject/>
  <dc:title>Las salinas del mar menor</dc:title>
</cp:coreProperties>
</file>